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166-DDE5-4687-8014-54E6BD1B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910-4CE7-42C1-8C90-390D0706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8252-DD91-42B4-8C93-BBCCE83C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85F-C30E-4860-B0B5-D618F8B4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5B86-1CA2-454B-8F9F-4D8C6A64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68A-7AC0-4E3D-A9FF-BE55C2BE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32F-5B76-4F20-8B2B-2B18E691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2D7-DF51-4CF7-B91B-0E50D620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7B8-4320-4A08-90EA-0916F512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22A-087B-4AE1-9115-6737B956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9BE-1004-4650-B52E-40C7400F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E7B-1069-4CCB-9EB5-CFA2B88B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6CB6-B29C-44B0-A0A2-302A7324B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ниверзитет у Крагујевц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акултет медицинских нау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новне струковне студије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иох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ставна јединица 3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Calibri"/>
              </a:rPr>
              <a:t>Угљени хидрати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C:\Users\Radica\Downloads\unlogo.png"/>
          <p:cNvPicPr/>
          <p:nvPr/>
        </p:nvPicPr>
        <p:blipFill>
          <a:blip r:embed="rId1"/>
          <a:stretch/>
        </p:blipFill>
        <p:spPr>
          <a:xfrm>
            <a:off x="457200" y="304920"/>
            <a:ext cx="142884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Radica\Desktop\Logo_FMN_256.png"/>
          <p:cNvPicPr/>
          <p:nvPr/>
        </p:nvPicPr>
        <p:blipFill>
          <a:blip r:embed="rId2"/>
          <a:stretch/>
        </p:blipFill>
        <p:spPr>
          <a:xfrm>
            <a:off x="7070760" y="317520"/>
            <a:ext cx="15606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Оксидативна декарбоксилација пирув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олико у ћелији има кисеоника, у процесу који се назива оксидативна декарбоксилација пирувата, од сваког молекула пирувата добијамо по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дан молекул ацетил-коензима 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дан молекул угљен-диоксид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ош један молекул редукованог коензима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ADH+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ребсов цикл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цетил-коензим А се у митохондријама разграђује у процесу који се зове Кребсов цикл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ебсов циклус чини серија узастопних реакција код којих је производ последње реакције (оксалацетат) истовремено и супстрат за прву реакцију (оксалацетат и ацетил-коензим А дају цитра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ребсов цикл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и регулаторна ензима Кребсовог циклуса с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цитрат-синтаз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зоцитрат-дехидрогеназ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лфакетоглутарат-дехидроген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ликом разградње сваког молекула ацетил-коензима А се добија по 10 молекула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АТР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упно се приликом потпуне разградње једног молекула глукозе у присуству кисеоника добија нето 30 молекула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АТ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2057400"/>
          <a:ext cx="8915400" cy="45720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та се добиј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ко је то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иколи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DH+H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→ 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ADH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сидативна декарбоксилација пирувата (x2)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DH+H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ебсов циклус (x2)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 → 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DH+H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ADH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поновање енерг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да се ћелије „засите“ енергијом, тј. када се синтетише довољно </a:t>
            </a:r>
            <a:r>
              <a:rPr b="0" i="1" lang="sr-RS" sz="3000" spc="-1" strike="noStrike">
                <a:solidFill>
                  <a:srgbClr val="000000"/>
                </a:solidFill>
                <a:latin typeface="Calibri"/>
              </a:rPr>
              <a:t>АТР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 у ћелијама, сав вишак молекула глукозе се депону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лукоза се у ћелијама депонује прво у облику полисахарида гликогена, а касније, када се и депои гликогена напуне и у облику триацилглицерола (простих масти) за шта практично не постоји ограничење у количини која ће се депоновати у организ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ликог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олисахарид изграђен из молекула глукоз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оцес синтезе гликогена се назива гликогенеза, а процес разградње гликогена се назива гликогеноли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зерве гликогена из јетре могу трајати до 24 часа након узимања хране, а у свакодневним околностима се троше значајно брж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Регулација метаболизма гликог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сулин делује на регулаторни ензим задужен за гликогенезу тако што га активира, односно гликоген-синтаза под дејством инсулина постаје активна и уграђује молекуле глукозе у гликог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лукагон активира гликоген-фосфорилазу и тиме поспешује разградњу гликогена, односно гликогеноли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гулација глике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тај начин глукагон може деловати на јетру да повећа гликемију, тако што ће се у ћелијама јетре гликоген разградити до молекула глукозе који могу напустити јетру, ући у крвоток и довести до скока концентрације глукозе у кр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болиз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д термином метаболизам, подразумевају се све хемијске реакције у нашем организ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де је енергиј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ТП је „основна енергетска мон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гљени хидр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гљени хидрати су молекули чија је основна улога у исхрани, производња метаболичке енер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дељени су на моносахариде (глукоза, фруктоза, галактоза), дисахариде (сахароза, лактоза) и полисахариде (скроб, гликоген, целулоз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кроб и глук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ва најзначајнија угљена хидрата су скроб, који је најзаступљенији угљени хидрат у нашој исхрани и глуко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157px-Alpha-D-Glucopyranose"/>
          <p:cNvPicPr/>
          <p:nvPr/>
        </p:nvPicPr>
        <p:blipFill>
          <a:blip r:embed="rId1"/>
          <a:stretch/>
        </p:blipFill>
        <p:spPr>
          <a:xfrm>
            <a:off x="3733920" y="3714840"/>
            <a:ext cx="1571400" cy="1695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653640" y="54975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олекул глук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арење угљених хид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цес варења угљених хидрата започиње још у усној дупљ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желуцу, долази до даље разградње скроба под дејством хлороводоничне киселине желудачног с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јвећи део скроба разграђују ензими панкреаса, односно панкреасна амил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арење угљених хид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 дисахариде и олигосахариде делују ензими који се зову дисахаридазе и олигосахаридазе и разграђују их до моносахар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лазак глукозе из црева у крв након оброка доводи до повећања концентрације глукозе у крви, а то је главни стимулус за лучење инсулина из панкре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ликол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цес којим се један молекул глукозе разграђује до два молекула пирогрожђане киселине (пирувата), одвија се у цитоплазми ћелија и назива се гликоли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из од 10 ензимски катализованих хемијских реак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ликол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гулаторни ензими гликолиз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ексокиназа (глукокиназа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осфофруктокиназа 1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ируват кин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ључни регулаторни ензим (eng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ate-limi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гликолизе је фосфофруктокиназа 1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ликол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 крају процеса гликолизе, од сваког молекула глукозе добијамо п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2 молекула пирувата (пирогрожђане киселине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2 молекула </a:t>
            </a: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АТР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2 молекула коензима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ADH+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то добитак од једног молекула глукозе у анаеробним условима (када нема кисеоника) само 2 молекула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АТР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17:53:23Z</dcterms:created>
  <dc:creator>М</dc:creator>
  <dc:description/>
  <dc:language>en-US</dc:language>
  <cp:lastModifiedBy>KC KG Lab</cp:lastModifiedBy>
  <dcterms:modified xsi:type="dcterms:W3CDTF">2020-10-01T07:59:44Z</dcterms:modified>
  <cp:revision>8</cp:revision>
  <dc:subject/>
  <dc:title>Slide 1</dc:title>
</cp:coreProperties>
</file>